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3AA-CEC9-4E73-A8F5-322281F5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9ED-155E-4936-A270-282BA713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6 The mammalian cardiovascular system: an over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611C-9547-4ACB-B473-3FBF0BE6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8 The cardiac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22AA-9AD6-4845-ABD4-B5E28682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2E5-5EA4-4816-BF29-3E54477D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D66-CA5B-41CE-9789-616C7C2B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2377-88AA-4701-9BEA-3C0F814C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2 Measurement of blood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F187-8155-429A-BB2F-C80C57B2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3 Blood flow in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5D48-7638-476C-B933-6D30B93D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A5DE-D645-45FD-8D97-F1F483A9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7 The composition of mammalian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D30-B93B-4BA5-889E-0A9EAFC2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8 Blood clo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EFC2-7861-42FD-BCCD-6DB34350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4DF-A9AD-49CA-ADC7-7FE77296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20 Atheroscler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79DB-8BE7-4C9B-AD9D-CCFCAE43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2.10 The structure of 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3465-E2B4-4307-84E7-4FBFA27B9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54F-4F57-4E57-9A73-1A53AE92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3D3-1549-4EB7-88F3-E8219CF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A9B-7160-4618-8D58-C86642D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22E-54FC-4B47-9634-E8DD2D48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44CA-83A0-4262-B60B-21FF9568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8E61-D1E6-46A3-8BEF-CBC9AE06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B493-7EC3-4D1C-9EAE-D9106AF9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308-5777-421B-B6C5-BDFD59F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D8D-F383-4BC7-97FE-A7EEF2A4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77E-BF2E-40DE-8167-DD9DF92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964B-AB69-4987-9045-7281976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EAF-4F27-4C47-BE85-3499EB5D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C19F-F4EC-4376-A2B7-26BF4FF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5638-C3B2-40EB-A76E-3A67E42C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E93-817A-47CC-8861-3B1C229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BC3-6697-4806-807C-335E89D1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498-65E6-4D38-8597-570A5CE0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4FC60-FF54-46C8-BA39-886108ED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1B7FB-A134-4056-88C3-CB60186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569AB-3B31-4B1A-845A-656E9A4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D1365-CF73-4400-87EA-30C54B6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37C43-E9FA-4622-904D-9EC5C33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8D7-D492-4D2D-888F-1ED4A12C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0B20E-4F68-457E-A43D-50A7DBB3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44F3E-AE7C-4BC2-9BBD-2290185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2373E-DDA4-497D-9F36-6BE63ED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A6622-85E7-42DF-8366-7B5BE33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E61D2-17D9-43CB-9F6E-FCF9352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5F855-1059-4750-A245-1D607212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E55A1-26B5-4A55-A961-21B4BE20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9EB79-421C-4AF3-B335-9770B828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F4EA8-212F-4864-ABF0-4148393F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40ECA-4C53-4E54-A873-0B0793A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7E8-20B1-4067-AB90-A7C2027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D4417-48EA-49F1-AF73-9F504497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954F5-B1BD-42ED-AEB6-3760F365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97D56-5795-42B9-955A-99530CD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F19AA-18D4-4298-BE46-912BA54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5E80E-B7C4-4EE4-A4B4-6486400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7F623-9F70-44D9-B6F2-C992022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EA248-F473-4BBF-B00E-156FA75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88A6D-53EC-46FD-B131-5149C71A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2B808-FB3E-4D64-B0D4-4A8F7508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E3243-70A8-439D-B1E4-4B2DC097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FDB-4874-4E6B-B9FD-49703283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DC09C-A091-4844-B223-4501CB44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E99F8-2FE7-46C1-BBE0-A2109B0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F97D7-35C2-4D6D-96D3-E8713825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9F0E2-84B5-4181-9204-2A00D05A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A0217-8C0F-4FA3-939E-0FB630A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92EC2-2036-43D6-A7FF-2DDBEE9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49BDA-3579-4CE7-BC10-6A209F8B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1B6B8-D3FD-45B9-9E18-C34046D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AB4E4-296F-415F-A41E-6379A5BC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6F846-AD88-4A7D-BF5D-8D32CF47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EFD-56AC-47F0-BE87-EF976C88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579FC-71D0-4E59-A8AA-FB0F3B11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E558B-F578-477B-8DE9-CAE64D08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60F9-DC02-4087-9745-CE2A3F4B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FEDD-F4A0-47A4-9F32-5846BCEC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4BAD-719F-41C2-ABB2-22D56BA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BED9-2031-477F-A526-E08C698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D5CF-DF2A-49A9-8609-8101D85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202E-53AD-4BAA-97F0-4BEBADF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C0B2-7A72-4B7F-815C-987E4D2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3CA1-64F4-4C26-84B8-F211505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79E-3351-4F71-96A1-74303FC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A76F-9001-41F9-A5E5-7189BFDA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D435-5682-42F6-AE62-21546729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469E-E049-4EFB-B681-B479B7BC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3AD82-9EF2-4660-A76B-E9D2FB5C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4C41A-682B-4F38-BB31-B9A695E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99817-2721-4B93-82C9-C0405B51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35AC5-ABF0-4F05-9EBB-240F3F23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55E70-A3A1-4356-AF7B-5A733D5C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FC4D0-C19D-4E3E-A441-B5662D5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8A97A-1841-4E0C-B160-F2C4446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892-36D5-4C23-A941-0A8D75A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B4A5E-9EB0-4592-B61A-C8EE08A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AE579-DC29-435E-AF35-5D82D17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E65FF-D20E-4A9A-8ADE-433FD58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59CA4-275F-4188-B341-CA9DC5F2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734BD-FB1C-48FF-A7CD-B92412A6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9C6B-C168-4945-B70B-51B045FA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20422-6496-4F8A-BEB8-AA802337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9340-A2BD-4B27-8735-79D854E6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F2A5-FA22-4E78-A567-7DBF2D52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8558B-A1C1-4F1C-8524-A7B323C6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96F-A05D-4D43-80E8-DF8A982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9451-78AE-4F91-BC87-30DE3684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E5269-3366-40BB-ADA3-705F614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44CB-71D3-432D-B17F-0B9B24D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D0B0-04D2-4580-A56D-D08C2DD3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B991-6F04-4882-918E-028317C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DCEF-09CB-4E8C-849F-6073E2D4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C0989-BBFE-4FFD-BD74-84CECDB7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87A-5DA8-40BA-A54B-C59875C23BF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7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D8A-50FF-4A39-B1A9-90F4DF524432}" type="slidenum">
              <a:rPr b="1" lang="en-US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DAA-1F66-4087-9AB8-465974722E9E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010-E14A-4F36-BD62-5730F349F0F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0CC-5E20-4605-92A8-2B1FB5F5B0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19AA-8766-428F-83F0-8E11C51FCD03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95C3-1F24-481C-843C-39B95F079AE5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012E-BC71-4C03-87E5-9A13BD477F6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arm-U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1) List the locations where each of the 4 macromolecules are chemically diges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1) Where do vertebrates store excess calori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2) Draw and label the structure of a human hea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Ch. 42) List the pathway of a single red blood cell through the hea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Pathway of blood through hear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Picture 2" descr="42_07MammalHeart-L.jpg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6" descr="42_06MammalCardioVasc-U"/>
          <p:cNvPicPr/>
          <p:nvPr/>
        </p:nvPicPr>
        <p:blipFill>
          <a:blip r:embed="rId1"/>
          <a:stretch/>
        </p:blipFill>
        <p:spPr>
          <a:xfrm>
            <a:off x="1077840" y="136440"/>
            <a:ext cx="6988320" cy="65851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1116000" y="131760"/>
            <a:ext cx="220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ior 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109520" y="861840"/>
            <a:ext cx="1486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128600" y="1598760"/>
            <a:ext cx="1486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right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122480" y="3706920"/>
            <a:ext cx="1485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043520" y="1668600"/>
            <a:ext cx="641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1681200" y="5262480"/>
            <a:ext cx="1193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116000" y="4703760"/>
            <a:ext cx="1625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573880" y="5796000"/>
            <a:ext cx="1993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ominal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ind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1122480" y="4309920"/>
            <a:ext cx="1625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5999040" y="5014800"/>
            <a:ext cx="660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5815080" y="4589640"/>
            <a:ext cx="1428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6164280" y="4157640"/>
            <a:ext cx="1428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303960" y="3719520"/>
            <a:ext cx="1733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7"/>
          <p:cNvSpPr/>
          <p:nvPr/>
        </p:nvSpPr>
        <p:spPr>
          <a:xfrm>
            <a:off x="5751360" y="912960"/>
            <a:ext cx="1257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6246720" y="1655640"/>
            <a:ext cx="1257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eft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5483160" y="155520"/>
            <a:ext cx="2151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and fore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0"/>
          <p:cNvSpPr/>
          <p:nvPr/>
        </p:nvSpPr>
        <p:spPr>
          <a:xfrm flipV="1">
            <a:off x="4622760" y="284040"/>
            <a:ext cx="83016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1"/>
          <p:cNvSpPr/>
          <p:nvPr/>
        </p:nvSpPr>
        <p:spPr>
          <a:xfrm flipV="1">
            <a:off x="5648400" y="1401480"/>
            <a:ext cx="32544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4376880" y="1884240"/>
            <a:ext cx="3780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5824080" y="1892160"/>
            <a:ext cx="398520" cy="97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5791320" y="3627360"/>
            <a:ext cx="477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4749840" y="3335400"/>
            <a:ext cx="1388880" cy="9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737240" y="4206960"/>
            <a:ext cx="105876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5456160" y="4792680"/>
            <a:ext cx="53820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4410000" y="5900760"/>
            <a:ext cx="112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 flipV="1">
            <a:off x="2522520" y="4724280"/>
            <a:ext cx="88092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0"/>
          <p:cNvSpPr/>
          <p:nvPr/>
        </p:nvSpPr>
        <p:spPr>
          <a:xfrm flipV="1">
            <a:off x="2751120" y="4229280"/>
            <a:ext cx="1478160" cy="59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1"/>
          <p:cNvSpPr/>
          <p:nvPr/>
        </p:nvSpPr>
        <p:spPr>
          <a:xfrm flipV="1">
            <a:off x="2514600" y="3479760"/>
            <a:ext cx="1287360" cy="9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2"/>
          <p:cNvSpPr/>
          <p:nvPr/>
        </p:nvSpPr>
        <p:spPr>
          <a:xfrm flipV="1">
            <a:off x="2349360" y="3530520"/>
            <a:ext cx="71928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3"/>
          <p:cNvSpPr/>
          <p:nvPr/>
        </p:nvSpPr>
        <p:spPr>
          <a:xfrm>
            <a:off x="2455920" y="2112840"/>
            <a:ext cx="38880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4"/>
          <p:cNvSpPr/>
          <p:nvPr/>
        </p:nvSpPr>
        <p:spPr>
          <a:xfrm>
            <a:off x="2286000" y="1122480"/>
            <a:ext cx="76680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2192400" y="398520"/>
            <a:ext cx="1177920" cy="12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6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diac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w Cen MT"/>
              </a:rPr>
              <a:t>Systol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contraction or pumping ph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w Cen MT"/>
              </a:rPr>
              <a:t>Diastol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relaxation or filling ph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Tw Cen MT"/>
              </a:rPr>
              <a:t>Heart rat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# beats/minute (72 bpm resting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Tw Cen MT"/>
              </a:rPr>
              <a:t>Stroke volum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amount of blood pumped by L. ventricle during contraction (~70 m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8-3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62" name="Picture 2" descr="42_08CardiacCycle_3-U"/>
          <p:cNvPicPr/>
          <p:nvPr/>
        </p:nvPicPr>
        <p:blipFill>
          <a:blip r:embed="rId1"/>
          <a:stretch/>
        </p:blipFill>
        <p:spPr>
          <a:xfrm>
            <a:off x="1488960" y="136440"/>
            <a:ext cx="6164280" cy="6585120"/>
          </a:xfrm>
          <a:prstGeom prst="rect">
            <a:avLst/>
          </a:prstGeom>
          <a:ln w="0">
            <a:noFill/>
          </a:ln>
        </p:spPr>
      </p:pic>
      <p:sp>
        <p:nvSpPr>
          <p:cNvPr id="463" name="Oval 3"/>
          <p:cNvSpPr/>
          <p:nvPr/>
        </p:nvSpPr>
        <p:spPr>
          <a:xfrm>
            <a:off x="4116240" y="190440"/>
            <a:ext cx="270000" cy="2700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"/>
          <p:cNvGrpSpPr/>
          <p:nvPr/>
        </p:nvGrpSpPr>
        <p:grpSpPr>
          <a:xfrm>
            <a:off x="1542960" y="1709640"/>
            <a:ext cx="2140200" cy="541440"/>
            <a:chOff x="1542960" y="1709640"/>
            <a:chExt cx="2140200" cy="541440"/>
          </a:xfrm>
        </p:grpSpPr>
        <p:sp>
          <p:nvSpPr>
            <p:cNvPr id="465" name="Text Box 6"/>
            <p:cNvSpPr/>
            <p:nvPr/>
          </p:nvSpPr>
          <p:spPr>
            <a:xfrm>
              <a:off x="1865160" y="1709640"/>
              <a:ext cx="11066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rial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1542960" y="2003400"/>
              <a:ext cx="21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ricular diast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8"/>
          <p:cNvGrpSpPr/>
          <p:nvPr/>
        </p:nvGrpSpPr>
        <p:grpSpPr>
          <a:xfrm>
            <a:off x="4124160" y="190440"/>
            <a:ext cx="2140200" cy="541440"/>
            <a:chOff x="4124160" y="190440"/>
            <a:chExt cx="2140200" cy="541440"/>
          </a:xfrm>
        </p:grpSpPr>
        <p:sp>
          <p:nvSpPr>
            <p:cNvPr id="468" name="Text Box 9"/>
            <p:cNvSpPr/>
            <p:nvPr/>
          </p:nvSpPr>
          <p:spPr>
            <a:xfrm>
              <a:off x="4446360" y="190440"/>
              <a:ext cx="11066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rial systole and ventricul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4124160" y="484200"/>
              <a:ext cx="21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st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1"/>
          <p:cNvGrpSpPr/>
          <p:nvPr/>
        </p:nvGrpSpPr>
        <p:grpSpPr>
          <a:xfrm>
            <a:off x="4086360" y="6000840"/>
            <a:ext cx="2139840" cy="540720"/>
            <a:chOff x="4086360" y="6000840"/>
            <a:chExt cx="2139840" cy="540720"/>
          </a:xfrm>
        </p:grpSpPr>
        <p:sp>
          <p:nvSpPr>
            <p:cNvPr id="471" name="Text Box 12"/>
            <p:cNvSpPr/>
            <p:nvPr/>
          </p:nvSpPr>
          <p:spPr>
            <a:xfrm>
              <a:off x="4408200" y="6000840"/>
              <a:ext cx="110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ricular systole and at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4086360" y="6294240"/>
              <a:ext cx="21398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st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14"/>
          <p:cNvSpPr/>
          <p:nvPr/>
        </p:nvSpPr>
        <p:spPr>
          <a:xfrm>
            <a:off x="3932280" y="3581280"/>
            <a:ext cx="4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373560" y="4546440"/>
            <a:ext cx="4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4002120" y="4400640"/>
            <a:ext cx="7891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4192560" y="198360"/>
            <a:ext cx="146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8"/>
          <p:cNvSpPr/>
          <p:nvPr/>
        </p:nvSpPr>
        <p:spPr>
          <a:xfrm>
            <a:off x="1542960" y="1727280"/>
            <a:ext cx="270000" cy="26964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1606680" y="1731960"/>
            <a:ext cx="1458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092480" y="6005520"/>
            <a:ext cx="270000" cy="2700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4172040" y="6006960"/>
            <a:ext cx="1458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w Cen MT"/>
              </a:rPr>
              <a:t>Valves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: prevent backflow of blood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Tw Cen MT"/>
              </a:rPr>
              <a:t>atrioventricular (AV) valv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tricuspid, bicuspid) separate each atrium and ventric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Tw Cen MT"/>
              </a:rPr>
              <a:t>semilunar valv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ntrol blood flow to the aorta and the pulmonary arte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ub-dup” sound = blood against closed AV valves (lub) / the semilunar (dup) valv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w Cen MT"/>
              </a:rPr>
              <a:t>Heart murmu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backflow of blood through a defective valv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84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w Cen MT"/>
              </a:rPr>
              <a:t>Sinoatrial (SA) node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: pacemaker of heart, in right atrium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8" name="Content Placeholder 3" descr="42_09HeartRhythmControl_4-L.jpg"/>
          <p:cNvPicPr/>
          <p:nvPr/>
        </p:nvPicPr>
        <p:blipFill>
          <a:blip r:embed="rId1"/>
          <a:stretch/>
        </p:blipFill>
        <p:spPr>
          <a:xfrm>
            <a:off x="152280" y="2133720"/>
            <a:ext cx="8778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04920" y="160020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acemaker is regulated by two portions of the nervous system: the sympathetic and parasympathetic divis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sympathetic divi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peeds up the pacemak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parasympathetic divi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lows down the pacemak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acemaker is also regulated by hormones (epinephrine) and tempera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91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7080" y="49536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lood Press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28240" y="16761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 systolic/diastolic press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ystolic: heart contrac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iastolic: heart relax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ormal: 120/70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Puls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rhythmic bulging of artery walls with each heartbe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9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42_11AreaPressureVeloc-L.jpg"/>
          <p:cNvPicPr/>
          <p:nvPr/>
        </p:nvPicPr>
        <p:blipFill>
          <a:blip r:embed="rId1"/>
          <a:stretch/>
        </p:blipFill>
        <p:spPr>
          <a:xfrm>
            <a:off x="4876920" y="990720"/>
            <a:ext cx="42670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3" descr="42_12BloodPressureMeas-U"/>
          <p:cNvPicPr/>
          <p:nvPr/>
        </p:nvPicPr>
        <p:blipFill>
          <a:blip r:embed="rId1"/>
          <a:stretch/>
        </p:blipFill>
        <p:spPr>
          <a:xfrm>
            <a:off x="297000" y="1339920"/>
            <a:ext cx="8548560" cy="5395680"/>
          </a:xfrm>
          <a:prstGeom prst="rect">
            <a:avLst/>
          </a:prstGeom>
          <a:ln w="0">
            <a:noFill/>
          </a:ln>
        </p:spPr>
      </p:pic>
      <p:sp>
        <p:nvSpPr>
          <p:cNvPr id="502" name="Oval 16"/>
          <p:cNvSpPr/>
          <p:nvPr/>
        </p:nvSpPr>
        <p:spPr>
          <a:xfrm>
            <a:off x="690480" y="1825560"/>
            <a:ext cx="276480" cy="2761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72080" y="1446120"/>
            <a:ext cx="3498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 pressure reading: 120/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199120" y="3452760"/>
            <a:ext cx="412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056440" y="3833640"/>
            <a:ext cx="28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4876920" y="3594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>
            <a:off x="7778880" y="396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6729480" y="5719680"/>
            <a:ext cx="8953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3649680" y="5719680"/>
            <a:ext cx="13906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bl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th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2265480" y="3452760"/>
            <a:ext cx="412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760320" y="5713560"/>
            <a:ext cx="74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3"/>
          <p:cNvSpPr/>
          <p:nvPr/>
        </p:nvSpPr>
        <p:spPr>
          <a:xfrm>
            <a:off x="2038320" y="360036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4"/>
          <p:cNvSpPr/>
          <p:nvPr/>
        </p:nvSpPr>
        <p:spPr>
          <a:xfrm flipV="1">
            <a:off x="1117440" y="3867120"/>
            <a:ext cx="15876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758880" y="1830240"/>
            <a:ext cx="128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9"/>
          <p:cNvSpPr/>
          <p:nvPr/>
        </p:nvSpPr>
        <p:spPr>
          <a:xfrm>
            <a:off x="3565440" y="1843200"/>
            <a:ext cx="276480" cy="2761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3641760" y="1839960"/>
            <a:ext cx="128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1"/>
          <p:cNvSpPr/>
          <p:nvPr/>
        </p:nvSpPr>
        <p:spPr>
          <a:xfrm>
            <a:off x="6472080" y="1835280"/>
            <a:ext cx="276480" cy="2761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6554880" y="1835280"/>
            <a:ext cx="128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w Cen MT"/>
              </a:rPr>
              <a:t>Using a Sphygmomanometer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2" descr="42_13BloodFlowVeins-U"/>
          <p:cNvPicPr/>
          <p:nvPr/>
        </p:nvPicPr>
        <p:blipFill>
          <a:blip r:embed="rId1"/>
          <a:stretch/>
        </p:blipFill>
        <p:spPr>
          <a:xfrm>
            <a:off x="1077840" y="355680"/>
            <a:ext cx="6988320" cy="61452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1116000" y="1141560"/>
            <a:ext cx="2495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 of bloo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vein (toward he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6316560" y="1490760"/>
            <a:ext cx="1397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ve (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6316560" y="2773440"/>
            <a:ext cx="1771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3657600" y="1289160"/>
            <a:ext cx="9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4819680" y="16318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5200560" y="291456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0"/>
          <p:cNvSpPr/>
          <p:nvPr/>
        </p:nvSpPr>
        <p:spPr>
          <a:xfrm>
            <a:off x="4711680" y="475632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6316560" y="4627440"/>
            <a:ext cx="1771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ve (clo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3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TextBox 11"/>
          <p:cNvSpPr/>
          <p:nvPr/>
        </p:nvSpPr>
        <p:spPr>
          <a:xfrm>
            <a:off x="533520" y="27432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lood returning to heart through veins and ven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hapter 42 – Part 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42_01AlbinoAxolotl-L.jpg"/>
          <p:cNvPicPr/>
          <p:nvPr/>
        </p:nvPicPr>
        <p:blipFill>
          <a:blip r:embed="rId1"/>
          <a:stretch/>
        </p:blipFill>
        <p:spPr>
          <a:xfrm>
            <a:off x="4648320" y="3352680"/>
            <a:ext cx="43434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7080" y="49536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w Cen MT"/>
              </a:rPr>
              <a:t>Lymphatic System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: returns lost fluid and proteins to blood as </a:t>
            </a:r>
            <a:r>
              <a:rPr b="1" lang="en-US" sz="2800" spc="-1" strike="noStrike">
                <a:solidFill>
                  <a:srgbClr val="c00000"/>
                </a:solidFill>
                <a:latin typeface="Tw Cen MT"/>
              </a:rPr>
              <a:t>lymph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04920" y="21333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w Cen MT"/>
              </a:rPr>
              <a:t>Lymph Nodes: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filter lymph, house WBC’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mmune system ro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534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" descr="42_16LymphNodeXray-L.jpg"/>
          <p:cNvPicPr/>
          <p:nvPr/>
        </p:nvPicPr>
        <p:blipFill>
          <a:blip r:embed="rId1"/>
          <a:stretch/>
        </p:blipFill>
        <p:spPr>
          <a:xfrm>
            <a:off x="4648320" y="1676520"/>
            <a:ext cx="3998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loo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lasma (55%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water, ions, proteins, gases, nutrients, wastes, horm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ells (45%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RBC, WBC, platel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 from stem cells in bone marro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d blood cells (</a:t>
            </a:r>
            <a:r>
              <a:rPr b="0" lang="en-US" sz="2600" spc="-1" strike="noStrike">
                <a:solidFill>
                  <a:srgbClr val="c00000"/>
                </a:solidFill>
                <a:latin typeface="Tw Cen MT"/>
              </a:rPr>
              <a:t>erythrocy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):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ransport via </a:t>
            </a:r>
            <a:r>
              <a:rPr b="1" lang="en-US" sz="2600" spc="-1" strike="noStrike">
                <a:solidFill>
                  <a:srgbClr val="7030a0"/>
                </a:solidFill>
                <a:latin typeface="Tw Cen MT"/>
              </a:rPr>
              <a:t>hemoglob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ite blood cells (</a:t>
            </a:r>
            <a:r>
              <a:rPr b="0" lang="en-US" sz="2600" spc="-1" strike="noStrike">
                <a:solidFill>
                  <a:srgbClr val="c00000"/>
                </a:solidFill>
                <a:latin typeface="Tw Cen MT"/>
              </a:rPr>
              <a:t>leukocy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): fight inf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w Cen MT"/>
              </a:rPr>
              <a:t>Platelet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cell fragments): blood clott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7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1" name="Picture 44" descr="42_17_BloodComposition-U"/>
          <p:cNvPicPr/>
          <p:nvPr/>
        </p:nvPicPr>
        <p:blipFill>
          <a:blip r:embed="rId1"/>
          <a:stretch/>
        </p:blipFill>
        <p:spPr>
          <a:xfrm>
            <a:off x="297000" y="647640"/>
            <a:ext cx="8548560" cy="55609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1217520" y="843120"/>
            <a:ext cx="8953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sma 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614520" y="1281240"/>
            <a:ext cx="806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titu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1770120" y="1281240"/>
            <a:ext cx="1041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jor fun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417600" y="1643040"/>
            <a:ext cx="419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17600" y="2290680"/>
            <a:ext cx="83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ons (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rolyt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80960" y="2658960"/>
            <a:ext cx="838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carbon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700280" y="1655640"/>
            <a:ext cx="99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ve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rrying ot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1700280" y="2316240"/>
            <a:ext cx="1181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motic balan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 buffering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embr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meab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417600" y="3745080"/>
            <a:ext cx="1136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sma protei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1719360" y="3954600"/>
            <a:ext cx="1136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motic balan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 buff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480960" y="3960720"/>
            <a:ext cx="8380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bum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80960" y="4373640"/>
            <a:ext cx="8380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449280" y="462744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unoglobuli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antibodi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719360" y="4373640"/>
            <a:ext cx="647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1719360" y="4627440"/>
            <a:ext cx="57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417600" y="5084640"/>
            <a:ext cx="22352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tances transported by 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1"/>
          <p:cNvSpPr/>
          <p:nvPr/>
        </p:nvSpPr>
        <p:spPr>
          <a:xfrm>
            <a:off x="480960" y="5319720"/>
            <a:ext cx="12445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piratory g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2"/>
          <p:cNvSpPr/>
          <p:nvPr/>
        </p:nvSpPr>
        <p:spPr>
          <a:xfrm>
            <a:off x="3351240" y="2309760"/>
            <a:ext cx="70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3"/>
          <p:cNvSpPr/>
          <p:nvPr/>
        </p:nvSpPr>
        <p:spPr>
          <a:xfrm>
            <a:off x="4341960" y="2481120"/>
            <a:ext cx="691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oph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4"/>
          <p:cNvSpPr/>
          <p:nvPr/>
        </p:nvSpPr>
        <p:spPr>
          <a:xfrm>
            <a:off x="4335480" y="380196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utroph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5"/>
          <p:cNvSpPr/>
          <p:nvPr/>
        </p:nvSpPr>
        <p:spPr>
          <a:xfrm>
            <a:off x="5808600" y="3738600"/>
            <a:ext cx="81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6"/>
          <p:cNvSpPr/>
          <p:nvPr/>
        </p:nvSpPr>
        <p:spPr>
          <a:xfrm>
            <a:off x="5649840" y="2386080"/>
            <a:ext cx="939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7"/>
          <p:cNvSpPr/>
          <p:nvPr/>
        </p:nvSpPr>
        <p:spPr>
          <a:xfrm>
            <a:off x="5014800" y="3129120"/>
            <a:ext cx="939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osinoph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8"/>
          <p:cNvSpPr/>
          <p:nvPr/>
        </p:nvSpPr>
        <p:spPr>
          <a:xfrm>
            <a:off x="4386240" y="4100400"/>
            <a:ext cx="939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4386240" y="4684680"/>
            <a:ext cx="1955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ythrocytes (red blood cel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0"/>
          <p:cNvSpPr/>
          <p:nvPr/>
        </p:nvSpPr>
        <p:spPr>
          <a:xfrm>
            <a:off x="6837480" y="4691160"/>
            <a:ext cx="79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–6 mill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1"/>
          <p:cNvSpPr/>
          <p:nvPr/>
        </p:nvSpPr>
        <p:spPr>
          <a:xfrm>
            <a:off x="6640560" y="4100400"/>
            <a:ext cx="10922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0,000–400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2"/>
          <p:cNvSpPr/>
          <p:nvPr/>
        </p:nvSpPr>
        <p:spPr>
          <a:xfrm>
            <a:off x="7885080" y="4100400"/>
            <a:ext cx="552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3"/>
          <p:cNvSpPr/>
          <p:nvPr/>
        </p:nvSpPr>
        <p:spPr>
          <a:xfrm>
            <a:off x="7885080" y="4691160"/>
            <a:ext cx="69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O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me CO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4"/>
          <p:cNvSpPr/>
          <p:nvPr/>
        </p:nvSpPr>
        <p:spPr>
          <a:xfrm>
            <a:off x="7885080" y="1655640"/>
            <a:ext cx="81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ense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5"/>
          <p:cNvSpPr/>
          <p:nvPr/>
        </p:nvSpPr>
        <p:spPr>
          <a:xfrm>
            <a:off x="7897680" y="1287360"/>
            <a:ext cx="81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6"/>
          <p:cNvSpPr/>
          <p:nvPr/>
        </p:nvSpPr>
        <p:spPr>
          <a:xfrm>
            <a:off x="6634080" y="1230480"/>
            <a:ext cx="1104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per </a:t>
            </a: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mm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 of bl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7"/>
          <p:cNvSpPr/>
          <p:nvPr/>
        </p:nvSpPr>
        <p:spPr>
          <a:xfrm>
            <a:off x="5122800" y="1287360"/>
            <a:ext cx="66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ll 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8"/>
          <p:cNvSpPr/>
          <p:nvPr/>
        </p:nvSpPr>
        <p:spPr>
          <a:xfrm>
            <a:off x="5732640" y="855720"/>
            <a:ext cx="1663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llular elements 4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4386240" y="1655640"/>
            <a:ext cx="203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ukocytes (white blood cel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3"/>
          <p:cNvSpPr/>
          <p:nvPr/>
        </p:nvSpPr>
        <p:spPr>
          <a:xfrm>
            <a:off x="6761160" y="1655640"/>
            <a:ext cx="85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,000–10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8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79" name="Picture 37" descr="42_18_BloodClotting-U"/>
          <p:cNvPicPr/>
          <p:nvPr/>
        </p:nvPicPr>
        <p:blipFill>
          <a:blip r:embed="rId1"/>
          <a:stretch/>
        </p:blipFill>
        <p:spPr>
          <a:xfrm>
            <a:off x="297000" y="941400"/>
            <a:ext cx="8548560" cy="4975200"/>
          </a:xfrm>
          <a:prstGeom prst="rect">
            <a:avLst/>
          </a:prstGeom>
          <a:ln w="0">
            <a:noFill/>
          </a:ln>
        </p:spPr>
      </p:pic>
      <p:sp>
        <p:nvSpPr>
          <p:cNvPr id="580" name="Oval 36"/>
          <p:cNvSpPr/>
          <p:nvPr/>
        </p:nvSpPr>
        <p:spPr>
          <a:xfrm>
            <a:off x="5045040" y="1292400"/>
            <a:ext cx="209520" cy="2095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35"/>
          <p:cNvSpPr/>
          <p:nvPr/>
        </p:nvSpPr>
        <p:spPr>
          <a:xfrm>
            <a:off x="2933640" y="1295280"/>
            <a:ext cx="209520" cy="2095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34"/>
          <p:cNvSpPr/>
          <p:nvPr/>
        </p:nvSpPr>
        <p:spPr>
          <a:xfrm>
            <a:off x="539640" y="1305000"/>
            <a:ext cx="209520" cy="20952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1569960" y="2563920"/>
            <a:ext cx="131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gen fi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592200" y="1305000"/>
            <a:ext cx="127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2994120" y="1290600"/>
            <a:ext cx="127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103720" y="1290600"/>
            <a:ext cx="127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344600" y="288288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3838680" y="2736720"/>
            <a:ext cx="671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5821200" y="2744640"/>
            <a:ext cx="671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5769000" y="3502080"/>
            <a:ext cx="1920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 clot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6845400" y="2982960"/>
            <a:ext cx="1278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5659560" y="2514600"/>
            <a:ext cx="21276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V="1">
            <a:off x="6469200" y="1820520"/>
            <a:ext cx="884160" cy="1003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7437600" y="2128320"/>
            <a:ext cx="0" cy="89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8337600" y="3024360"/>
            <a:ext cx="4316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1469880" y="3521160"/>
            <a:ext cx="2016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ting factors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1673280" y="3743280"/>
            <a:ext cx="784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1666800" y="3940200"/>
            <a:ext cx="1425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aged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1673280" y="4137120"/>
            <a:ext cx="3762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 (factors include calcium, vitamin 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2058840" y="4627440"/>
            <a:ext cx="1625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zymatic cas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1461960" y="5014800"/>
            <a:ext cx="108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h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3259080" y="5014800"/>
            <a:ext cx="825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440080" y="5465880"/>
            <a:ext cx="907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4199040" y="5465880"/>
            <a:ext cx="539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1295280" y="2532240"/>
            <a:ext cx="84240" cy="35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1405080" y="266400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8"/>
          <p:cNvSpPr/>
          <p:nvPr/>
        </p:nvSpPr>
        <p:spPr>
          <a:xfrm>
            <a:off x="3670200" y="2598840"/>
            <a:ext cx="13968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32"/>
          <p:cNvGrpSpPr/>
          <p:nvPr/>
        </p:nvGrpSpPr>
        <p:grpSpPr>
          <a:xfrm>
            <a:off x="8298000" y="2959200"/>
            <a:ext cx="485640" cy="83880"/>
            <a:chOff x="8298000" y="2959200"/>
            <a:chExt cx="485640" cy="83880"/>
          </a:xfrm>
        </p:grpSpPr>
        <p:sp>
          <p:nvSpPr>
            <p:cNvPr id="609" name="Line 29"/>
            <p:cNvSpPr/>
            <p:nvPr/>
          </p:nvSpPr>
          <p:spPr>
            <a:xfrm>
              <a:off x="8298000" y="295920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8783640" y="2959200"/>
              <a:ext cx="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1"/>
            <p:cNvSpPr/>
            <p:nvPr/>
          </p:nvSpPr>
          <p:spPr>
            <a:xfrm>
              <a:off x="8298000" y="3002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 Box 33"/>
          <p:cNvSpPr/>
          <p:nvPr/>
        </p:nvSpPr>
        <p:spPr>
          <a:xfrm>
            <a:off x="4703760" y="4808520"/>
            <a:ext cx="1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8"/>
          <p:cNvSpPr/>
          <p:nvPr/>
        </p:nvSpPr>
        <p:spPr>
          <a:xfrm flipV="1">
            <a:off x="6469200" y="1819440"/>
            <a:ext cx="884160" cy="10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9"/>
          <p:cNvSpPr/>
          <p:nvPr/>
        </p:nvSpPr>
        <p:spPr>
          <a:xfrm flipV="1">
            <a:off x="7437600" y="2126880"/>
            <a:ext cx="0" cy="8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50004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ardiovascular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52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Atherosclerosi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buildup of plaque deposits within arte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eart attack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myocardial infarction): blockage of one or more coronary arte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Stroke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upture or blockage of arteries in the hea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yperten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high blood pressure; promotes atherosclerosis and increases the risk of heart attack and strok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1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61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42_20Atherosclerosis-U"/>
          <p:cNvPicPr/>
          <p:nvPr/>
        </p:nvPicPr>
        <p:blipFill>
          <a:blip r:embed="rId1"/>
          <a:stretch/>
        </p:blipFill>
        <p:spPr>
          <a:xfrm>
            <a:off x="1441440" y="136440"/>
            <a:ext cx="6261120" cy="6585120"/>
          </a:xfrm>
          <a:prstGeom prst="rect">
            <a:avLst/>
          </a:prstGeom>
          <a:ln w="0">
            <a:noFill/>
          </a:ln>
        </p:spPr>
      </p:pic>
      <p:sp>
        <p:nvSpPr>
          <p:cNvPr id="622" name="Oval 18"/>
          <p:cNvSpPr/>
          <p:nvPr/>
        </p:nvSpPr>
        <p:spPr>
          <a:xfrm>
            <a:off x="1488960" y="669960"/>
            <a:ext cx="24156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2246400" y="127080"/>
            <a:ext cx="159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men of ar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3409920" y="449280"/>
            <a:ext cx="822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490760" y="378000"/>
            <a:ext cx="128880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6535800" y="222120"/>
            <a:ext cx="69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6912000" y="2606760"/>
            <a:ext cx="798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5456160" y="3260880"/>
            <a:ext cx="14162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lymphoc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537080" y="2898720"/>
            <a:ext cx="798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3230640" y="2828880"/>
            <a:ext cx="981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am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2325600" y="3068640"/>
            <a:ext cx="1243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roph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2004840" y="3511440"/>
            <a:ext cx="1489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que ru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1487520" y="2727360"/>
            <a:ext cx="406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3411360" y="629604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6"/>
          <p:cNvSpPr/>
          <p:nvPr/>
        </p:nvSpPr>
        <p:spPr>
          <a:xfrm>
            <a:off x="1722600" y="6289560"/>
            <a:ext cx="1149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brous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1550880" y="66672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9"/>
          <p:cNvSpPr/>
          <p:nvPr/>
        </p:nvSpPr>
        <p:spPr>
          <a:xfrm>
            <a:off x="4549680" y="669960"/>
            <a:ext cx="24156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4611600" y="66672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21"/>
          <p:cNvSpPr/>
          <p:nvPr/>
        </p:nvSpPr>
        <p:spPr>
          <a:xfrm>
            <a:off x="4533840" y="3921120"/>
            <a:ext cx="24120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4595760" y="391788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25"/>
          <p:cNvSpPr/>
          <p:nvPr/>
        </p:nvSpPr>
        <p:spPr>
          <a:xfrm>
            <a:off x="1482840" y="3924360"/>
            <a:ext cx="241200" cy="241200"/>
          </a:xfrm>
          <a:prstGeom prst="ellipse">
            <a:avLst/>
          </a:prstGeom>
          <a:solidFill>
            <a:srgbClr val="019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1544760" y="3921120"/>
            <a:ext cx="12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>
            <a:off x="1870200" y="614520"/>
            <a:ext cx="207720" cy="73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8"/>
          <p:cNvSpPr/>
          <p:nvPr/>
        </p:nvSpPr>
        <p:spPr>
          <a:xfrm flipV="1">
            <a:off x="2700360" y="367920"/>
            <a:ext cx="317520" cy="8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9"/>
          <p:cNvSpPr/>
          <p:nvPr/>
        </p:nvSpPr>
        <p:spPr>
          <a:xfrm flipV="1">
            <a:off x="3344760" y="896400"/>
            <a:ext cx="19368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1"/>
          <p:cNvSpPr/>
          <p:nvPr/>
        </p:nvSpPr>
        <p:spPr>
          <a:xfrm flipV="1">
            <a:off x="1684440" y="2163240"/>
            <a:ext cx="419040" cy="5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2"/>
          <p:cNvSpPr/>
          <p:nvPr/>
        </p:nvSpPr>
        <p:spPr>
          <a:xfrm>
            <a:off x="2878200" y="26622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3"/>
          <p:cNvSpPr/>
          <p:nvPr/>
        </p:nvSpPr>
        <p:spPr>
          <a:xfrm>
            <a:off x="3271680" y="2484360"/>
            <a:ext cx="1828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4"/>
          <p:cNvSpPr/>
          <p:nvPr/>
        </p:nvSpPr>
        <p:spPr>
          <a:xfrm flipV="1">
            <a:off x="4767120" y="2595600"/>
            <a:ext cx="4478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5"/>
          <p:cNvSpPr/>
          <p:nvPr/>
        </p:nvSpPr>
        <p:spPr>
          <a:xfrm>
            <a:off x="5778360" y="27766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6"/>
          <p:cNvSpPr/>
          <p:nvPr/>
        </p:nvSpPr>
        <p:spPr>
          <a:xfrm>
            <a:off x="6189840" y="2430360"/>
            <a:ext cx="69840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7"/>
          <p:cNvSpPr/>
          <p:nvPr/>
        </p:nvSpPr>
        <p:spPr>
          <a:xfrm flipV="1">
            <a:off x="6307200" y="461880"/>
            <a:ext cx="47448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8"/>
          <p:cNvSpPr/>
          <p:nvPr/>
        </p:nvSpPr>
        <p:spPr>
          <a:xfrm rot="8428200">
            <a:off x="2210760" y="5548320"/>
            <a:ext cx="42840" cy="141120"/>
          </a:xfrm>
          <a:custGeom>
            <a:avLst/>
            <a:gdLst>
              <a:gd name="textAreaLeft" fmla="*/ 0 w 42840"/>
              <a:gd name="textAreaRight" fmla="*/ 15480 w 428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39"/>
          <p:cNvSpPr/>
          <p:nvPr/>
        </p:nvSpPr>
        <p:spPr>
          <a:xfrm>
            <a:off x="2216160" y="563256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0"/>
          <p:cNvSpPr/>
          <p:nvPr/>
        </p:nvSpPr>
        <p:spPr>
          <a:xfrm>
            <a:off x="3168720" y="5749920"/>
            <a:ext cx="22212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4"/>
          <p:cNvSpPr/>
          <p:nvPr/>
        </p:nvSpPr>
        <p:spPr>
          <a:xfrm>
            <a:off x="2730600" y="3738600"/>
            <a:ext cx="10944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20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you need to know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ory vessels, heart chambers, route of mammalian 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olution of the heart from 2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chamb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RBC’s demonstrate structure/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press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rdiovascular disease (Roles of diet, BP, genetic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Transport systems (circulation) linked with gas exchange (respiration)</a:t>
            </a: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320" y="160020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ffusion of gases only rapid across small distanc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4" descr="42_02_GastrovascularCavs-L.jpg"/>
          <p:cNvPicPr/>
          <p:nvPr/>
        </p:nvPicPr>
        <p:blipFill>
          <a:blip r:embed="rId1"/>
          <a:stretch/>
        </p:blipFill>
        <p:spPr>
          <a:xfrm>
            <a:off x="76320" y="4572000"/>
            <a:ext cx="4419360" cy="21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42_03_OpenVsClosedCirc-L.jpg"/>
          <p:cNvPicPr/>
          <p:nvPr/>
        </p:nvPicPr>
        <p:blipFill>
          <a:blip r:embed="rId2"/>
          <a:stretch/>
        </p:blipFill>
        <p:spPr>
          <a:xfrm>
            <a:off x="4572000" y="4572000"/>
            <a:ext cx="4465800" cy="19810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0" y="22860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in direct contact with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spo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514600" y="22860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strovascular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igestion &amp; distribute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jellies, flat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5867280" y="22860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rculator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fluid to tissues &amp; cells fo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larg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Circulatory System 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= </a:t>
            </a:r>
            <a:r>
              <a:rPr b="0" lang="en-US" sz="3200" spc="-1" strike="noStrike" u="sng">
                <a:solidFill>
                  <a:srgbClr val="775f55"/>
                </a:solidFill>
                <a:uFillTx/>
                <a:latin typeface="Tw Cen MT"/>
              </a:rPr>
              <a:t>Blood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+ </a:t>
            </a:r>
            <a:r>
              <a:rPr b="0" lang="en-US" sz="3200" spc="-1" strike="noStrike" u="sng">
                <a:solidFill>
                  <a:srgbClr val="775f55"/>
                </a:solidFill>
                <a:uFillTx/>
                <a:latin typeface="Tw Cen MT"/>
              </a:rPr>
              <a:t>Vessels</a:t>
            </a: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+ </a:t>
            </a:r>
            <a:r>
              <a:rPr b="0" lang="en-US" sz="3200" spc="-1" strike="noStrike" u="sng">
                <a:solidFill>
                  <a:srgbClr val="775f55"/>
                </a:solidFill>
                <a:uFillTx/>
                <a:latin typeface="Tw Cen MT"/>
              </a:rPr>
              <a:t>Heart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228600" y="1600200"/>
            <a:ext cx="426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n circulator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lood bathes organ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lood + lymph = hemoly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eart pumps hemolymph into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. arthropods, mollu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4648320" y="160020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sed circulator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lood contained in vessels &amp; pumped aroun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lood and fluid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. annelids, cephalopods, verteb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42_03_OpenVsClosedCirc-L.jpg"/>
          <p:cNvPicPr/>
          <p:nvPr/>
        </p:nvPicPr>
        <p:blipFill>
          <a:blip r:embed="rId1"/>
          <a:stretch/>
        </p:blipFill>
        <p:spPr>
          <a:xfrm>
            <a:off x="1371600" y="4289400"/>
            <a:ext cx="5791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25560"/>
            <a:ext cx="259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Figure 42.10a</a:t>
            </a:r>
            <a:endParaRPr b="0" lang="en-US" sz="1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31" descr="42_10aBloodVessels-U"/>
          <p:cNvPicPr/>
          <p:nvPr/>
        </p:nvPicPr>
        <p:blipFill>
          <a:blip r:embed="rId1"/>
          <a:stretch/>
        </p:blipFill>
        <p:spPr>
          <a:xfrm>
            <a:off x="297000" y="474840"/>
            <a:ext cx="8548560" cy="5908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946160" y="1285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1880" y="3129120"/>
            <a:ext cx="749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373480" y="1884240"/>
            <a:ext cx="10029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379600" y="2494080"/>
            <a:ext cx="1397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3998880" y="2570040"/>
            <a:ext cx="113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8120160" y="468360"/>
            <a:ext cx="755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8101080" y="3186000"/>
            <a:ext cx="647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5211720" y="861840"/>
            <a:ext cx="16700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sal lami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5618160" y="1325520"/>
            <a:ext cx="1530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865840" y="1916280"/>
            <a:ext cx="1054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5573880" y="2519280"/>
            <a:ext cx="1390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6272280" y="5351400"/>
            <a:ext cx="806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nu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278080" y="5338800"/>
            <a:ext cx="1130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teri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>
            <a:off x="2679840" y="485136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6661080" y="46353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1998720" y="259380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"/>
          <p:cNvSpPr/>
          <p:nvPr/>
        </p:nvSpPr>
        <p:spPr>
          <a:xfrm>
            <a:off x="6929280" y="2655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4"/>
          <p:cNvSpPr/>
          <p:nvPr/>
        </p:nvSpPr>
        <p:spPr>
          <a:xfrm>
            <a:off x="1770120" y="201600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5"/>
          <p:cNvSpPr/>
          <p:nvPr/>
        </p:nvSpPr>
        <p:spPr>
          <a:xfrm>
            <a:off x="1609560" y="142416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6"/>
          <p:cNvSpPr/>
          <p:nvPr/>
        </p:nvSpPr>
        <p:spPr>
          <a:xfrm>
            <a:off x="3436920" y="1427040"/>
            <a:ext cx="34596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6797520" y="2049480"/>
            <a:ext cx="4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7097760" y="14749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9"/>
          <p:cNvSpPr/>
          <p:nvPr/>
        </p:nvSpPr>
        <p:spPr>
          <a:xfrm flipV="1">
            <a:off x="4686480" y="1033560"/>
            <a:ext cx="480960" cy="84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0"/>
          <p:cNvSpPr/>
          <p:nvPr/>
        </p:nvSpPr>
        <p:spPr>
          <a:xfrm flipV="1">
            <a:off x="8007480" y="735120"/>
            <a:ext cx="309600" cy="74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 of Blood Vesse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7" name="Diagram 9" descr=""/>
          <p:cNvPicPr/>
          <p:nvPr/>
        </p:nvPicPr>
        <p:blipFill>
          <a:blip r:embed="rId1"/>
          <a:stretch/>
        </p:blipFill>
        <p:spPr>
          <a:xfrm>
            <a:off x="-23760" y="2054160"/>
            <a:ext cx="9137520" cy="42004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0"/>
          <p:cNvSpPr/>
          <p:nvPr/>
        </p:nvSpPr>
        <p:spPr>
          <a:xfrm>
            <a:off x="22860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541008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own Arrow 14"/>
          <p:cNvSpPr/>
          <p:nvPr/>
        </p:nvSpPr>
        <p:spPr>
          <a:xfrm rot="13449000">
            <a:off x="2228760" y="1972800"/>
            <a:ext cx="316080" cy="838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own Arrow 15"/>
          <p:cNvSpPr/>
          <p:nvPr/>
        </p:nvSpPr>
        <p:spPr>
          <a:xfrm rot="13398600">
            <a:off x="5297400" y="1947600"/>
            <a:ext cx="316080" cy="83808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own Arrow 16"/>
          <p:cNvSpPr/>
          <p:nvPr/>
        </p:nvSpPr>
        <p:spPr>
          <a:xfrm rot="19132800">
            <a:off x="3665520" y="1981080"/>
            <a:ext cx="316080" cy="838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7"/>
          <p:cNvSpPr/>
          <p:nvPr/>
        </p:nvSpPr>
        <p:spPr>
          <a:xfrm rot="19132800">
            <a:off x="6789600" y="1981080"/>
            <a:ext cx="316080" cy="838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28240" y="533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lood enters through an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atrium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s pumped out through a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ventric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sh = </a:t>
            </a:r>
            <a:r>
              <a:rPr b="0" lang="en-US" sz="2800" spc="-1" strike="noStrike">
                <a:solidFill>
                  <a:srgbClr val="7030a0"/>
                </a:solidFill>
                <a:latin typeface="Tw Cen MT"/>
              </a:rPr>
              <a:t>single circulation pathwa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2 chamb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w Cen MT"/>
              </a:rPr>
              <a:t>Double circulat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amphibians, reptiles, mamm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416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42_04aSingleVsDoubleCirc-L.jpg"/>
          <p:cNvPicPr/>
          <p:nvPr/>
        </p:nvPicPr>
        <p:blipFill>
          <a:blip r:embed="rId1"/>
          <a:stretch/>
        </p:blipFill>
        <p:spPr>
          <a:xfrm>
            <a:off x="1219320" y="2575080"/>
            <a:ext cx="3273480" cy="397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42_04bSingleVsDoubleCirc-L.jpg"/>
          <p:cNvPicPr/>
          <p:nvPr/>
        </p:nvPicPr>
        <p:blipFill>
          <a:blip r:embed="rId2"/>
          <a:stretch/>
        </p:blipFill>
        <p:spPr>
          <a:xfrm>
            <a:off x="5029200" y="2590920"/>
            <a:ext cx="3048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Double circulation pathways in vertebrat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2" name="Picture 2" descr="42_05_DoubleCirculation-L.jpg"/>
          <p:cNvPicPr/>
          <p:nvPr/>
        </p:nvPicPr>
        <p:blipFill>
          <a:blip r:embed="rId1"/>
          <a:stretch/>
        </p:blipFill>
        <p:spPr>
          <a:xfrm>
            <a:off x="304920" y="1428840"/>
            <a:ext cx="85471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35:02Z</dcterms:created>
  <dc:creator>Jerome Burg</dc:creator>
  <dc:description/>
  <dc:language>en-US</dc:language>
  <cp:lastModifiedBy>Chris Nancy Chou</cp:lastModifiedBy>
  <dcterms:modified xsi:type="dcterms:W3CDTF">2011-03-10T07:49:26Z</dcterms:modified>
  <cp:revision>76</cp:revision>
  <dc:subject/>
  <dc:title>PowerPoint Presentation</dc:title>
</cp:coreProperties>
</file>